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3F5-AFC5-4A6C-B324-3848CB29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612-3C47-47BE-8C0B-5D32550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F83-6C81-4EF5-BADC-EC14772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A6E-A372-42D3-99F5-FA66CD6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512-2C7A-4D7F-8762-06A949E0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2B3-3186-4CF4-B9B6-3EB26F2F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94BD-9BFC-447C-B05E-B2FDF00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FEB-BF1F-4AC8-B101-83D31939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68D-E3E0-4A4D-9A0E-288050B7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56A-975C-48C1-A7D2-719BD85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BF13-3A45-413E-BA36-FDF9D78D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DE9-046E-4FCD-80D2-0A2362A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479-3FB6-4B0B-A3F1-E36EDB4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5CC8-D4D7-431B-BD13-D130858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8C0-366F-4BD7-B71E-AD06C0C4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F4A-ECC8-4EF7-92F0-5BE731E9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27C6-0954-4A92-AFBF-36998050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29D1-96F9-411C-A6E3-82471946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CF20-04D6-46F3-8FC5-D5F17317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6AF6-51CA-42CF-BE89-F0B3341D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EE9E-528F-4EEB-9D19-FA950B2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E2F8-71B2-4E3F-9388-9D9F44FE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86E-C113-49DF-9DF7-C861532B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2B8C-B9B3-458F-9281-988DAE4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5FE1-125C-4A63-BAB0-3EFAE5A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9C91-7C3C-43B6-9F5E-FCCC7D8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8214-DDD9-45D5-A42A-8C47D66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BBEF-B26E-4C3B-8F74-AC5AB8D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9C33-998E-427E-A7A3-65714E52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88D8-A710-4913-B9E1-518500D9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E784-574D-45B6-8141-65DA2508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A683-19AD-45E9-9313-CEF98335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986E-B62F-40C6-A903-DCBB024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354-4FC2-4EB9-B1BC-DD594E1D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CA2A-E867-497B-9546-FA448A9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F8B0-E189-482D-B4BA-578284C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897A-AA09-464E-A45F-50F64EB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B5ED-587B-48F8-A8E8-509ECA5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D877-185D-4373-BE83-6757788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E21E-E0B9-4783-945A-75A61B3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8A64-BB71-4E1D-9DEE-EDE9B652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B447-EBC4-4C70-9A06-B96FB1ED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AA36A-F30D-48F8-894D-C8655C2F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B30-2DCD-44A7-81E7-D2A150F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313-3723-4E0C-8A92-47EBFBB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3B-D77D-4AC1-95BF-374DCAA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845-4EA4-48FD-BB5C-1501CFF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619-CF47-4DE5-BEE5-57613DE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B98-E057-45D8-B87F-87F64F7752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8431-BF26-4A2A-B5BC-AA03C743B3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4F1-B1DE-4154-B760-3EC4B22EE2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63B-F423-47CD-BA03-D50B09533B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gromagazin.ru/igry-nikitina/kubiki-dlya-vsekh-nikitina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igromagazin.ru/igry-nikitina/slozhi-kvadrat-3-derevo-ramki-i-vkladyshi/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141300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Выделение элементов и свойств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04000" y="429264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Яночкина Н.В</a:t>
            </a:r>
            <a:r>
              <a:rPr b="0" lang="en-US" sz="1800" spc="-1" strike="noStrike">
                <a:solidFill>
                  <a:srgbClr val="0000cc"/>
                </a:solidFill>
                <a:latin typeface="Arial Black"/>
              </a:rPr>
              <a:t>.,</a:t>
            </a:r>
            <a:r>
              <a:rPr b="0" lang="en-US" sz="18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 Black"/>
              </a:rPr>
              <a:t>646 гр</a:t>
            </a:r>
            <a:r>
              <a:rPr b="0" lang="en-US" sz="1800" spc="-1" strike="noStrike">
                <a:solidFill>
                  <a:srgbClr val="6666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5589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ыктывка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lum bright="-12000"/>
          </a:blip>
          <a:srcRect l="8114" t="4449" r="7795" b="0"/>
          <a:stretch/>
        </p:blipFill>
        <p:spPr>
          <a:xfrm rot="20395200">
            <a:off x="1332000" y="3789000"/>
            <a:ext cx="2239920" cy="19098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246" t="2661" r="4752" b="341"/>
          <a:stretch/>
        </p:blipFill>
        <p:spPr>
          <a:xfrm>
            <a:off x="6156360" y="2852640"/>
            <a:ext cx="2449440" cy="2211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9079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33"/>
                </a:solidFill>
                <a:latin typeface="Verdana"/>
                <a:ea typeface="Arial"/>
              </a:rPr>
              <a:t>С дошкольниками необходимо проводить систематическую, последовательную работу, в ходе которой ребенок будет учиться выделять элементы и свойства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427800">
            <a:off x="250560" y="2781360"/>
            <a:ext cx="2555640" cy="2082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492360" y="3573360"/>
            <a:ext cx="2135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95280" y="188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Геометрические фигур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являю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эталон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пользуясь которыми человек определяет форму предметов и их частей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76280"/>
            <a:ext cx="358920" cy="50472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721880"/>
            <a:ext cx="802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Проблему знакомства детей с геометрическими фигурами и их свойствами следует рассматривать в двух аспектах: в плане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сенсорного восприятия форм геометрических фигур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и использования их как эталонов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в познании форм окружающих предме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, а также в смысле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познания особенностей их структуры, свойств, основных связей и закономерностей в их построени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, т. е. собственно геометрического матери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844640"/>
            <a:ext cx="358920" cy="504720"/>
          </a:xfrm>
          <a:prstGeom prst="diamond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42920" y="18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Уровни формирования «геометрического мышления» дошкольников (А.А.Столяр, А.М.Пышкал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575360"/>
            <a:ext cx="7921800" cy="1618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ервый уровен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характеризуется тем, что фигура воспринимается детьми как целое, ребенок еще не умеет выделять в ней отдельные элементы, не замечает сходства и различия между фигурами, каждую из них воспринимает обособл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3360960"/>
            <a:ext cx="7921800" cy="131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тором уро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ребенок уже выделяет элементы в фигуре и устанавливает отношения как между ними, так и между отдельными фигурами, однако еще не осознает общности между фигу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4896360"/>
            <a:ext cx="7921800" cy="1008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третьем уро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ребенок в состоянии устанавливать связи между свойствами и структурой фигур, связи между самими свой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1480680"/>
            <a:ext cx="80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Аналитическое восприятие геометрической фигуры, умение выделить в ней выраженные и явно ощутимые элементы и свойства создают условия для дальнейшего, более углубленного познания структурных ее элементов, раскрытия существенных признаков как внутри самой фигуры, так и между рядом фигур. Так, на основе выделения в объектах самого главного, существенного формируются понятия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(С. Л. Руби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2014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у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го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яма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резо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е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етырех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ямо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вадра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кружно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у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уб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з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ирамид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Шар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илинд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Геометрические понят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6591" r="0" b="8039"/>
          <a:stretch/>
        </p:blipFill>
        <p:spPr>
          <a:xfrm>
            <a:off x="5148360" y="4581360"/>
            <a:ext cx="3419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8840" y="188640"/>
            <a:ext cx="862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Примерная программа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«Математическое развитие дошколь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(Автор – Белошистая А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2132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Младшая группа (от З до 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Arial"/>
              </a:rPr>
              <a:t>Раздел «Геометрические понятия и отно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ервичные представления о форме геометрических фигур (круглые, треугольные, четырехуголь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Фигуры и тела (плоские и объем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ростые задания на распознавание (выбор нужной фигуры из нескольких различных) и сравнение (выбор фигуры из похожих фигу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ыделение признаков цвета и формы фигур. Поиск одинаковых и похож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геометрических фигур из различных материалов. Часть и целое: конструирование геометрических фигур из отдельных ч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49320" y="691560"/>
            <a:ext cx="57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Arial"/>
              </a:rPr>
              <a:t>Средняя группа (от 4 до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1703160"/>
            <a:ext cx="83170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точнение представлений о форме геометрических фигур: простые задания н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ознавание, на сравнение, на сериацию, на классификац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(по размеру, по форме, по цве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полнение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южетных рисунков и орнаментов из геометрических форм, их закрашивание с использованием контурной рам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геометрических фигур из отдельных часте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(геометрические мозаики, наборы «Сложи фигуру», палоч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предметных и сюжетных композиций из геометрических мозаик 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руг и овал. Треугольник и четырехугольник. Квадрат. Прямоугольник. Объемные тела (шар, куб, прямая призма типа «кирпич», конус, цилиндр)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лементы проективного обследования этих фигур в практиче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535" t="0" r="0" b="0"/>
          <a:stretch/>
        </p:blipFill>
        <p:spPr>
          <a:xfrm>
            <a:off x="6588000" y="189000"/>
            <a:ext cx="2556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35640" y="76428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Arial"/>
              </a:rPr>
              <a:t>Старшая группа (от 5 до 6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13228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Уточнение представлений о форме геометрических фигур: задания на распознавание, сравнение, классификацию с разнообразными наборами фигур и объемных тел. Выполнение рисунков и орнаментов из геометрических форм и их штриховка по контурной рамке. Конструирование геометрических фигур из отдельных частей (геометрическая мозаика, наборы «Сложи фигуру», палочк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58028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Точка. Прямая. Кривая. Ломаная. И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моделировани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из шнура, палочек и др. Получение прямой сгибанием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нутренняя и внешняя части фигуры. Граница фигуры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Замкнутые и незамкнутые линии. Треугольник. Четырехугольник. Круг и окружность. Полукруг. Овал. Симметричный орна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6278" t="16158" r="4764" b="3628"/>
          <a:stretch/>
        </p:blipFill>
        <p:spPr>
          <a:xfrm>
            <a:off x="7020000" y="260280"/>
            <a:ext cx="1655640" cy="1944720"/>
          </a:xfrm>
          <a:prstGeom prst="rect">
            <a:avLst/>
          </a:prstGeom>
          <a:ln w="28440">
            <a:solidFill>
              <a:srgbClr val="ff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1628640"/>
            <a:ext cx="896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 дошкольном возрасте происходит овладение перцептивной и интеллектуальной систематизацией форм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наиболее эффективным способом освоения дошкольниками геометрического материала являет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Verdana"/>
                <a:ea typeface="Arial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знание геометрических фигур, их свойств и отношений расширяет кругозор детей, позволяет им более точно и разносторонне воспринимать форму окружающих предметов, что положительно отражается на их продуктивн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5280" y="9810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Таким образ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30:13Z</dcterms:created>
  <dc:creator>студент</dc:creator>
  <dc:description/>
  <dc:language>en-US</dc:language>
  <cp:lastModifiedBy>1</cp:lastModifiedBy>
  <dcterms:modified xsi:type="dcterms:W3CDTF">2010-12-23T18:33:06Z</dcterms:modified>
  <cp:revision>75</cp:revision>
  <dc:subject/>
  <dc:title>Слайд 1</dc:title>
</cp:coreProperties>
</file>